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E01-7511-4691-AFDC-3611EDAA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631-7B7F-41C5-B1F1-17F59DE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CD84-9557-4110-9BAD-B7F5CD40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1F2-1D7E-4F7B-9138-3F8244B1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34C2-B880-4A1C-B083-551743BC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067F-9919-488D-B612-251D26BC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ACCC-F43A-455D-85A2-00C7F093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9BD6-4116-46E9-BB4C-618E72AC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C9AF-84DE-4E49-98A1-F43DE61A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0BEA-D47F-4CB0-92A5-0BE26086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B147-6261-48BF-9080-1B4B25E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D64-9C15-4901-9450-B15F8F25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CB6D-C481-4912-A787-C74347F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EC0A-E514-4E4B-A08A-C3FD3CC7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6F9A-684F-476D-B7B6-52BA922A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DE99-A138-4A71-B14E-CD0F0AE9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79B-BF07-4AF9-BCF2-C0EFC11B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03FC-8BB0-4AD3-B039-81CE3EC1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63C7D-7AB4-4B33-B592-8A204C30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2741-7F15-4758-926C-CDB2BDE9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372F-973B-49C7-8E9E-7C01BB86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834B-5080-4027-BE00-3F0A9DC1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97E-9A17-4230-84F2-3C726B8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84775-6829-4F7B-A374-46A227AB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6A6CC-9F57-4389-AB7B-B9D31A7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AF2D-BE83-4A66-9904-63D82701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6E8D-39B5-41D3-B9ED-26328EB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2BC03-93EC-4381-9AE4-DBD74B42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926D9-395D-4619-8D69-639276D9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47F1-D9CF-4141-A250-EAAE5DE3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3177-86C1-4E00-97FA-B6965589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91FA7-808B-4627-B1C9-B7933BCB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9F131-35D2-4FED-ABAD-24B5C287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21A-5251-4570-A981-94A6F81D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C80BB-6F94-4B99-BFA0-EB776310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69A0-7339-40FF-A70D-E5466331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EE74F-0457-45B9-9CA2-4A42764C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A44B-8632-44C8-B13D-AD45D305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997CB-0517-40B5-A17B-789DD559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B145A-D235-47B7-BAAE-97A1DD73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7BF5-75A6-4DE5-9486-33D38141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25ED4-BA28-4538-A7B2-82127516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75C3F-7F4C-42B9-A25D-DD5329A0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4FE-E0D9-41F7-8FB6-2E5BF3EE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2B1-A551-48DF-BA57-C912651D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6E6-548D-4B0E-876C-9BEFDAF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CA8-8B8B-4C90-80E8-350DCFCD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3A3-2210-43F2-BFEC-D4D90D40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A713-91FF-41B5-9A6D-80C92A4EC68A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4907-2007-4D09-A259-355C8F1AE1A4}" type="slidenum"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53C2-8BF6-4FB5-8055-DF37E3249AE5}" type="slidenum">
              <a:rPr b="0" lang="en-C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0F92-4B42-414E-ABA8-B32A50C0F55D}" type="slidenum">
              <a:rPr b="0" lang="en-C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ASZK6Qgp3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17680" y="1268280"/>
            <a:ext cx="8016840" cy="2786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By: Lily Wang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Tirthankar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appears in the world to teach th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ay to moksha, or liber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not an incarnation of the Go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great omniscient teachers who lived at various times in man's cultural hist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accomplished the highest spiritual goal of existence Each new tirthankara preaches the same basic Jain philosop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24 tirthankaras during this present ag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Svetambara Jains believe that tirthankaras can be men or women, but Digamber Jains believe that women can't be tirthankar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4" descr="C:\Kairu's stuff\School\Grade 11\World History AP\tirthankara-statues-500.jpg"/>
          <p:cNvPicPr/>
          <p:nvPr/>
        </p:nvPicPr>
        <p:blipFill>
          <a:blip r:embed="rId1"/>
          <a:stretch/>
        </p:blipFill>
        <p:spPr>
          <a:xfrm>
            <a:off x="5508720" y="1052640"/>
            <a:ext cx="2759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Tirthankar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Parshva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nstantia"/>
              </a:rPr>
              <a:t>four of the five Jain principles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Mahavir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Not the founder of Jainism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world's most recent tirthankara (and will be the last one in this age)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born as Vardhamana in north east India in 599 BCE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a prince, the son of King Siddhartha and Queen Trishal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live the life of an ascetic, or a sadhana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extremely long, arduous periods of fasting and meditation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attained Kevalnyan, enlightenmen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taught the path he had discovered to other seekers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Mahavira added the principle of chastit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established a community of 14,000 monks and 36,000 nuns before he di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Kairu's stuff\School\Grade 11\World History AP\ParshvaNath.jpg"/>
          <p:cNvPicPr/>
          <p:nvPr/>
        </p:nvPicPr>
        <p:blipFill>
          <a:blip r:embed="rId1"/>
          <a:stretch/>
        </p:blipFill>
        <p:spPr>
          <a:xfrm>
            <a:off x="4356000" y="836640"/>
            <a:ext cx="1737000" cy="2232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Kairu's stuff\School\Grade 11\World History AP\mahavira.jpg"/>
          <p:cNvPicPr/>
          <p:nvPr/>
        </p:nvPicPr>
        <p:blipFill>
          <a:blip r:embed="rId2"/>
          <a:stretch/>
        </p:blipFill>
        <p:spPr>
          <a:xfrm>
            <a:off x="6659640" y="836640"/>
            <a:ext cx="18921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Political Influ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Mohandas Karamchand Gandh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a Jai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some of his ideas on politics come fr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Jainism (from the 5 principl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pioneered satyagraha (truthfulness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efined as resistance to tyranny through mass civil disobedience, a philosophy firmly founded upon ahimsa or total nonviolenc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helped India to gain independ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inspired movements for civil rights and freedom across the worl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C:\Kairu's stuff\School\Grade 11\World History AP\gandhi.jpg"/>
          <p:cNvPicPr/>
          <p:nvPr/>
        </p:nvPicPr>
        <p:blipFill>
          <a:blip r:embed="rId1"/>
          <a:stretch/>
        </p:blipFill>
        <p:spPr>
          <a:xfrm>
            <a:off x="6372360" y="907920"/>
            <a:ext cx="21222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Economic Influ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t a limit to one’s own needs and whatever surplus one may accumulate beyond these needs should be donated to charities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eps in check the concentration of wealth and paves the way for its wide and more even distribution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wing gulf between the rich and the poor can be peacefully bridg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fair distribution of wealth is essential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siness dealings must be conducted in the non-acquisitive spirit of aparigrah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tera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gam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based on Mahavira teaching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orally compiled by his disciples into various Sutras (text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orally passed on from teachers (acaryas or gurus) to the disciples for several centuri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e scholars date the composition of Jain agamas at around 6th to 3rd century B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C:\Kairu's stuff\School\Grade 11\World History AP\350px-Jainmanuscript.jpg"/>
          <p:cNvPicPr/>
          <p:nvPr/>
        </p:nvPicPr>
        <p:blipFill>
          <a:blip r:embed="rId1"/>
          <a:stretch/>
        </p:blipFill>
        <p:spPr>
          <a:xfrm>
            <a:off x="3635280" y="907920"/>
            <a:ext cx="4444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Symbol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000" y="2060280"/>
            <a:ext cx="60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symbol of the seventh Tirthankara. In the Svetambar Jain tradition, it is also one of the symbols of the ashra-mangalas (Eight Auspicious Sign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 wheel on the palm of a hand, symbolizing Ahimsa (non-violence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riratna signify the three jewels of Jai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Kairu's stuff\School\Grade 11\World History AP\Jain_symbol.gif"/>
          <p:cNvPicPr/>
          <p:nvPr/>
        </p:nvPicPr>
        <p:blipFill>
          <a:blip r:embed="rId1"/>
          <a:stretch/>
        </p:blipFill>
        <p:spPr>
          <a:xfrm>
            <a:off x="6516720" y="836640"/>
            <a:ext cx="1141560" cy="1650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Kairu's stuff\School\Grade 11\World History AP\sym-jainism-210.gif"/>
          <p:cNvPicPr/>
          <p:nvPr/>
        </p:nvPicPr>
        <p:blipFill>
          <a:blip r:embed="rId2"/>
          <a:stretch/>
        </p:blipFill>
        <p:spPr>
          <a:xfrm>
            <a:off x="7308720" y="2637000"/>
            <a:ext cx="1243080" cy="2043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Kairu's stuff\School\Grade 11\World History AP\triratna.jpg"/>
          <p:cNvPicPr/>
          <p:nvPr/>
        </p:nvPicPr>
        <p:blipFill>
          <a:blip r:embed="rId3"/>
          <a:stretch/>
        </p:blipFill>
        <p:spPr>
          <a:xfrm>
            <a:off x="6012000" y="486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o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religion of religious equality, devoted to recognisi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rights of all living creatu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sectarian divid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Difambara Jain sect believes that women cannot achieve liberation without being reborn as men first. The Svetambara sect disagre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akednes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nakedness is an essential element of the road to liberation.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Mahavira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himself, set an example of total nudity that Digambaras believe monks should follow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is ban on female nakedness is partly intended to protect both men and wome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cause men to experience sexual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feel ashamed of being nak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8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nstantia"/>
              </a:rPr>
              <a:t>prevent the disruptive consequences of allowing women to walk around naked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C:\Kairu's stuff\School\Grade 11\World History AP\Jainism.jpg"/>
          <p:cNvPicPr/>
          <p:nvPr/>
        </p:nvPicPr>
        <p:blipFill>
          <a:blip r:embed="rId1"/>
          <a:stretch/>
        </p:blipFill>
        <p:spPr>
          <a:xfrm>
            <a:off x="6804000" y="836640"/>
            <a:ext cx="14130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o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himsa and wo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igambaras also believe that women are inherently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himsic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(harmful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enstrual blood kills micro-organisms living in the female bod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female body is less non-violent than a male bod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mpu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enstrual blood is a sign of impu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ttach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ature is to care for children and other dependa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Sci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7354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universe is uncreated, real, eternal, and infinite with no beginning and en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he matter is never destroyed; it only undergoes changes into different states or modes. This is the law of natu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aking meals before sunset i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defense of the vow of non-violenc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fter sunset many tiny living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beings come into existence in th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tmospher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C:\Kairu's stuff\School\Grade 11\World History AP\CampsBaySunset.jpg"/>
          <p:cNvPicPr/>
          <p:nvPr/>
        </p:nvPicPr>
        <p:blipFill>
          <a:blip r:embed="rId1"/>
          <a:stretch/>
        </p:blipFill>
        <p:spPr>
          <a:xfrm>
            <a:off x="5796000" y="4005360"/>
            <a:ext cx="2689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5000" spc="-1" strike="noStrike">
                <a:solidFill>
                  <a:srgbClr val="04617b"/>
                </a:solidFill>
                <a:latin typeface="Calibri"/>
              </a:rPr>
              <a:t>Bibliograph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BBC - Religion - Jainis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2 Oct. 2010. &lt;http://www.bbc.co.uk/religion/religions/jainism/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reuilly, Elizabeth, Joanne O'Brien, and Martin Palmer. "Jain Life:Beliefs and Practices."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Religion of the World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Ed. Martin E. Marty. New York: Transedition Limited and Fernleigh, 1997. 124-25. Prin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Google Image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6 Oct. 2010. &lt;http://www.google.ca/imghp?hl=en&amp;tab=wi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ainism - Wikipedia, the Free Encyclopedi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6 Oct. 2010. &lt;http://en.wikipedia.org/wiki/Jainism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ainis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0 Oct. 2010. &lt;http://www.pujas.com/Jainism-History.html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Jainism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26 Oct. 2010. &lt;http://www.jainworld.com/jainbooks/Books/Jainism.htm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Timeline of Jainism - Religion Facts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Web. 19 Oct. 2010. &lt;http://www.religionfacts.com/jainism/timeline.htm&gt;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7380360" y="765000"/>
            <a:ext cx="1584360" cy="1872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ief 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773360"/>
            <a:ext cx="7343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5th century BCE - Life of Mahavira, last Tirthankar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c. 4th-5th century CE - Umasvati codifies Jain texts in the Tattvartha Sutra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5th century - Schism occurs, forming the Svetambara and Digambara sect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9th-11th century - Digambara Jainism is frequently supported by south Indian royalty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12th century - Hemacandra, a Svetambara monk, is tutor to the rulers Siddharaja and his nephew Kumarapala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17th century - The iconoclastic Sthanakvasis sect emerg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18th-19th century - Decline of image-worshipping ascetic communiti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igin and Distribu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4043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onstantia"/>
              </a:rPr>
              <a:t>3rd century BCE - A Jain community forms in the trading center of Mathura. 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onstantia"/>
              </a:rPr>
              <a:t>21st century Revival of asceticism and development of mystical sects. Many Jains emigrate to East Africa, the United Kingdom and North America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5651640" y="1628640"/>
            <a:ext cx="2305080" cy="2043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664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Similarities with Buddh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olerant other relig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Kar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In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Around the same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Same backgound story for founder or proph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Social equal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Nirv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Libe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Non-violv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f49100"/>
                </a:solidFill>
                <a:uFillTx/>
                <a:latin typeface="Constantia"/>
                <a:hlinkClick r:id="rId1"/>
              </a:rPr>
              <a:t>http://</a:t>
            </a: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www.youtube.com/watch?v=cASZK6Qgp3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Princi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Three Jewels of Jai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aim of Jain life is to achieve liberation of the sou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done by following the Jain ethical code, or to put it simply, living rightly by following the three jewels of Jain ethic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re are three parts to this: right faith, right knowledge and right conduct. The first two are very closely connec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C:\Kairu's stuff\School\Grade 11\World History AP\TriratnaSymbol.jpg"/>
          <p:cNvPicPr/>
          <p:nvPr/>
        </p:nvPicPr>
        <p:blipFill>
          <a:blip r:embed="rId1"/>
          <a:stretch/>
        </p:blipFill>
        <p:spPr>
          <a:xfrm>
            <a:off x="6588000" y="765000"/>
            <a:ext cx="226404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Princip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Right faith - Samyak darshan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seeing things properly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You can't achieve this unless you are determined to find the truth, and distinguish it from untruth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Right knowledge - Samyak jnan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ccurate and sufficient knowledge of the real univers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proper knowledge of the Jain scriptur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pure soul; a soul that is free from attachment and desi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naturally free themselves from attachment and desi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Right conduct - Samyak charitra</a:t>
            </a: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Avoid doing harm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to living things and freeing yourself from attachment and other impure attitudes and thought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motivated and able to achieve right conduc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he Five Principles (Vows)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on-violence (Ahims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mplete avoidance of har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 living beings are equ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uthfulness (Saty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o always speak the truth in a harmless mann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on-stealing (Astey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is also includes avoidance of greed and exploit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hastity (Brahmachary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monogamy and faithfulness are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Detachment from material things (Aparigraha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o detach from people, places, and material thing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04617b"/>
                </a:solidFill>
                <a:latin typeface="Calibri"/>
              </a:rPr>
              <a:t>Holida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havira Jayan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Mar 28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birth anniversary of Lord Mahavira, the 24th Tirthankar and the "founder" of modern Jainis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Paryushan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Sep 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The most important Jain festival, it consists of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eight (Swetambara) or ten (Digambara) days of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intensive fasting and repentance. A time of refle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Diw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Nov 5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Diwali, the festival of lights, is the most popular of all the festivals from South Asia. It is an occasion for celebrations by Hindus as well as Jains and Sikh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C:\Kairu's stuff\School\Grade 11\World History AP\diwalicopy.jpg"/>
          <p:cNvPicPr/>
          <p:nvPr/>
        </p:nvPicPr>
        <p:blipFill>
          <a:blip r:embed="rId1"/>
          <a:stretch/>
        </p:blipFill>
        <p:spPr>
          <a:xfrm>
            <a:off x="6516720" y="2997360"/>
            <a:ext cx="22366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o Foun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6346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nstantia"/>
              </a:rPr>
              <a:t>The truth has been revealed at different times by a tirthankar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nstantia"/>
              </a:rPr>
              <a:t>Tirthankaras accomplished the highest spiritual goal of existence and then teach others how to achieve it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nstantia"/>
              </a:rPr>
              <a:t>In what Jains call the "present age" there have been 24 tirthankaras - although there is little evidence for the existence of most of thes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C:\Kairu's stuff\School\Grade 11\World History AP\24hrim.jpg"/>
          <p:cNvPicPr/>
          <p:nvPr/>
        </p:nvPicPr>
        <p:blipFill>
          <a:blip r:embed="rId1"/>
          <a:stretch/>
        </p:blipFill>
        <p:spPr>
          <a:xfrm>
            <a:off x="6588000" y="907920"/>
            <a:ext cx="2197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9:36:36Z</dcterms:created>
  <dc:creator>Profile</dc:creator>
  <dc:description/>
  <dc:language>en-US</dc:language>
  <cp:lastModifiedBy>Kairu Wang</cp:lastModifiedBy>
  <dcterms:modified xsi:type="dcterms:W3CDTF">2010-10-27T09:12:42Z</dcterms:modified>
  <cp:revision>21</cp:revision>
  <dc:subject/>
  <dc:title>Jainism</dc:title>
</cp:coreProperties>
</file>